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D21-364E-4B64-8618-6ED17659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860B-9DE1-4585-B0A6-6D422F98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E4E7-B433-4DD8-B91E-910795BE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2C5B-1FE1-4E3A-9BAD-D6013D0A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D45F-5EC4-436E-A54F-453296A6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AAB9-F6AE-4FEF-96A6-E53D3BC4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2143-01B7-4CCE-A403-7D612152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6DBD-E133-4EFB-81E2-DC9FFA4D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F134-FF2C-418E-A055-9FC06516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26E2-0E11-47FC-9291-87F2244C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499-F6BD-4C09-B865-19E41F3C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18E-BFBD-43D9-8A56-8F36E948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A441-F495-4FCD-A4C8-A104B87134B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85AA-DE08-48E3-806B-35ABD8C14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D8D2-E832-4B70-A637-E143B9DAA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Africa  RISING in the Ethiopian Highlands</a:t>
            </a:r>
            <a:br>
              <a:rPr sz="2800"/>
            </a:b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CCD8-8967-4235-99CE-3D3ADCD8C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nuary 2012: Project design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ch 2012: Quick Win project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ril – September 2012: Quick Win projects ope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tember 2012: Project review and plannin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Quick Win Project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19320" y="19807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Feeds” – ILRI / ICARDA / EIAR / OR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Water” – IWMI / ILRI / Addis Ababa, Bahir Dar, Arba Minch Univers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Trees” – ICRAF / ILRI / EIAR / Mekel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Pulses” – ICARDA / EIAR / ORARI / Farm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 Design – CIMMYT / IL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6DD7-FE0B-4CE3-A40E-A398C3CCD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his Workshop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view “Quick Wi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opportunities presented by “Quick Wi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miliarisation with modes of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priority research t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 operation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 partnership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7F7E-B40D-4BDC-A26C-1A354C465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6T08:38:39Z</dcterms:modified>
  <cp:revision>83</cp:revision>
  <dc:subject/>
  <dc:title>PowerPoint Presentation</dc:title>
</cp:coreProperties>
</file>